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3B5-9484-4C97-A0C7-04DF8A16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C3C-6963-40AB-9A89-BD88272D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3EF-56B4-4CC9-983F-9F73D223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2EC-9AAB-4031-9200-2EA93330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0FE-1596-4A9F-833F-E73BA811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6BB-8D91-45F6-941E-9FDC007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391-24D9-4D94-BA87-C7A13B62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0C0-1162-49FB-9F74-75980A0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015-6D05-4C61-8248-9CE15CB5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8EE-B01A-42A4-8D1C-548B816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424-26E6-4D9B-B555-AF1ADA5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ADE-FA24-4DB6-A367-BEEEB334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6D9F-95BB-4F74-B016-943E367D1D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ision costs and the Strategic Design of Administrative Process and Judici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blo Spiller and Emerson T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Journal of Leg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Jun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1143000"/>
            <a:ext cx="243864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3564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22860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47920" y="1828800"/>
            <a:ext cx="3124080" cy="25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209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99080" y="1447920"/>
            <a:ext cx="40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91640" y="1295280"/>
            <a:ext cx="3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5720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58120" y="3747960"/>
            <a:ext cx="70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27080" y="4495680"/>
            <a:ext cx="96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12600" y="4876920"/>
            <a:ext cx="106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31240" y="3733920"/>
            <a:ext cx="80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971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8620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08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22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8768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15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1828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50920" y="38160"/>
            <a:ext cx="42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ste exemplo a agência escolheria c* 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a utilidade líquida é maxim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aumento dos custos de decisão da agência,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reduz seu nível de discrição. Ou seja um aumento de [*a, a*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aumento dos custos de decisão da CA,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aumenta [*c, c*], o que dá mais discrição à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ta de ação da agência não significa que ela está satisfeita com o status quo.  O ganho de utilidade de se mudar pode não compensar a perda em termos de custo de decisão, ou seja,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)&gt;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ao mesmo tempo que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) -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&lt;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decisão de CA de mudar uma política da agência não necessariamente significa uma mudança de preferência de CA.  Pode ser uma redução de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 Isso pode acontecer por exemplo se o Congresso aumentar o orçamento de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-jog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 / 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7388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412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0" y="1143000"/>
            <a:ext cx="312408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114300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428640" y="114300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114300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43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1676520"/>
            <a:ext cx="3124080" cy="1600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167652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962160" y="205740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205740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14300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67880" y="-11160"/>
            <a:ext cx="38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ste sub-jogo a escolha da a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tomado como 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6720" y="609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07680" y="472428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1240" y="350532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escolha de CA                                      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 x quando CA aceita escolha da agência                   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quando CA rev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pt-BR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reversão da escolha de CA por SC   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pt-BR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quando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                            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pt-BR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 quando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115416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0" y="1154160"/>
            <a:ext cx="312408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0" y="1687680"/>
            <a:ext cx="3124080" cy="1600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115416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1154160"/>
            <a:ext cx="312408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0" y="1687680"/>
            <a:ext cx="3124080" cy="1600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285640" y="2133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28600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3341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9724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6820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143000"/>
            <a:ext cx="8610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0" y="1143000"/>
            <a:ext cx="3124080" cy="2046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1687680"/>
            <a:ext cx="3124080" cy="1893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6196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3623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3341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9724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80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2280" y="31240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4674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7621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522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1143000"/>
            <a:ext cx="8610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0" y="1143000"/>
            <a:ext cx="3124080" cy="2046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1687680"/>
            <a:ext cx="3124080" cy="1893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36196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623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341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9724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80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2280" y="31240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4674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7621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22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6480" y="5756400"/>
            <a:ext cx="8105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te caso CA prefer reverter x para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 Porém se fizer isso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verte de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x, o que é pior para CA.  Logo CA deixa em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6280" y="15256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a C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6240" y="4802040"/>
            <a:ext cx="91152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ros Grupos de Inter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09880"/>
            <a:ext cx="144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576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182880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105520"/>
            <a:ext cx="839880" cy="1440"/>
          </a:xfrm>
          <a:custGeom>
            <a:avLst/>
            <a:gdLst/>
            <a:ahLst/>
            <a:rect l="l" t="t" r="r" b="b"/>
            <a:pathLst>
              <a:path w="529" h="1">
                <a:moveTo>
                  <a:pt x="528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752480"/>
            <a:ext cx="3201840" cy="1449360"/>
          </a:xfrm>
          <a:custGeom>
            <a:avLst/>
            <a:gdLst/>
            <a:ahLst/>
            <a:rect l="l" t="t" r="r" b="b"/>
            <a:pathLst>
              <a:path w="2017" h="913">
                <a:moveTo>
                  <a:pt x="0" y="912"/>
                </a:move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286000"/>
            <a:ext cx="992160" cy="1906560"/>
          </a:xfrm>
          <a:custGeom>
            <a:avLst/>
            <a:gdLst/>
            <a:ahLst/>
            <a:rect l="l" t="t" r="r" b="b"/>
            <a:pathLst>
              <a:path w="625" h="1201">
                <a:moveTo>
                  <a:pt x="0" y="1200"/>
                </a:moveTo>
                <a:lnTo>
                  <a:pt x="62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424320" y="4199040"/>
            <a:ext cx="1915920" cy="823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45120" y="214560"/>
            <a:ext cx="5533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Os Atores no Processo Regu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5105520"/>
            <a:ext cx="106812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886200"/>
            <a:ext cx="1068480" cy="1220760"/>
          </a:xfrm>
          <a:custGeom>
            <a:avLst/>
            <a:gdLst/>
            <a:ahLst/>
            <a:rect l="l" t="t" r="r" b="b"/>
            <a:pathLst>
              <a:path w="673" h="769">
                <a:moveTo>
                  <a:pt x="672" y="0"/>
                </a:moveTo>
                <a:lnTo>
                  <a:pt x="0" y="7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657600"/>
            <a:ext cx="1144440" cy="137304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maior que for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o maior que será a discrição de CA para reverter 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erência judicial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quiescenc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 é o produto de três condi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CA aceita novo x se CA prefere x a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 CA aceita novo x se CA prefere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x, mas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alto o suficiente. 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&gt;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CA aceita novo x quando CA prefere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x e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baixo, mas sua reversão de x para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eria revertido por SC, isto é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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*s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Game A / CA / S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o primeiro jogo não tomamos a possibilidade de revisão por SC como uma restrição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egundo jogo não levamos em conta o comportamento estratégico d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mos juntar os dois jogos para levar todos estes elementos em co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788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09120" y="1143000"/>
            <a:ext cx="6248520" cy="2819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4920" y="114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1143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18292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0" y="1143000"/>
            <a:ext cx="6858000" cy="3124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3048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1055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815328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2936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354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4038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33520" y="1142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50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64680" y="3049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839080" y="609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ção será a agência escolher aquela política que lhe dá mais utilidade levando em conta qual será a melhor reação de CA e de 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mbre que [*c, c*] é o conjunto de  novas políticas da agência que não serão revertidas por CA dado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mando isso como base há três escolhas para 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Escolher x dentro de [*c, c*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 Escolher x for a de [*c, c*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Deixar o status quo rei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Escolher x dentro de [*c, c*]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04920" y="114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1143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292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0" y="1143000"/>
            <a:ext cx="6858000" cy="3124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048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1055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815328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2936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354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45120" y="270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3733560" y="2742840"/>
            <a:ext cx="236196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38920" y="5729400"/>
            <a:ext cx="127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c*) -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42720" y="6207120"/>
            <a:ext cx="57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e que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[*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] logo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obrevive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33520" y="1142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50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464680" y="3049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839080" y="609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scolher x for a de [*c, c*]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04920" y="114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1143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292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0" y="1143000"/>
            <a:ext cx="6858000" cy="3124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3200" y="3048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1055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815328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92936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354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45120" y="270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053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733560" y="2742840"/>
            <a:ext cx="236196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8920" y="5729400"/>
            <a:ext cx="127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c*) -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42720" y="6207120"/>
            <a:ext cx="57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e que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[*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] logo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obrevive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33520" y="1142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0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4680" y="3049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609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27960" y="304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Regulatory review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- as ações das agências regulatórias podem ser revistas pelas cortes.  Estas tem a função de interpretar qual a intenção das leis passadas pelos legisladores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egislative inten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.  Portanto as cortes são atores ativos no jogo regulató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e trabalho visa mostrar mais uma forma que o Congresso tem para controlar as agências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ongressional Dominance),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ta vez através das cor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 faz isto manipulando os recursos disponíveis para as agências e para as cortes de modo a dar uma vantagem para um ou outro no jogo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regulatory review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ência -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urt of Appeals -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rte Suprema - 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da um tem uma política preferida Z, onde Z=A, CA, 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é o status q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 é a política proposta pel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gência escolhe x ou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CA escolhe se mantém x ou se reverte a para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SC escolhe se mantém a decisão da CA ou se reverte para o status quo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usto de reverter são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ara CA e SC respec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848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51920" y="1143000"/>
            <a:ext cx="205740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143000"/>
            <a:ext cx="2057400" cy="274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5640" y="1143000"/>
            <a:ext cx="33526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1143000"/>
            <a:ext cx="259092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368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3564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1430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6280" y="3886200"/>
            <a:ext cx="65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29920" y="3276720"/>
            <a:ext cx="79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120" y="3962520"/>
            <a:ext cx="73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8440" y="2362320"/>
            <a:ext cx="77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160" y="1523880"/>
            <a:ext cx="70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91000" y="373392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2520" y="2362320"/>
            <a:ext cx="77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7880" y="3276720"/>
            <a:ext cx="84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00880" y="1905120"/>
            <a:ext cx="86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ora vamos levar em conta os custos de deci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jogo 1 agência -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1143000"/>
            <a:ext cx="243864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3564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133720"/>
            <a:ext cx="22860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920" y="1828800"/>
            <a:ext cx="3124080" cy="25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99080" y="1447920"/>
            <a:ext cx="40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1640" y="1295280"/>
            <a:ext cx="3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720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8120" y="3747960"/>
            <a:ext cx="70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7080" y="4495680"/>
            <a:ext cx="96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12600" y="4876920"/>
            <a:ext cx="106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31240" y="3733920"/>
            <a:ext cx="80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971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8620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3808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922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8768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115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828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4400" y="6060960"/>
            <a:ext cx="87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*c, c*] é o non-revesal set de CA.  [*a, a*] é o non-reversal ser d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9:26:05Z</dcterms:created>
  <dc:creator>Mueller</dc:creator>
  <dc:description/>
  <dc:language>en-US</dc:language>
  <cp:lastModifiedBy>Carlos Pereira</cp:lastModifiedBy>
  <dcterms:modified xsi:type="dcterms:W3CDTF">2004-09-22T20:32:21Z</dcterms:modified>
  <cp:revision>9</cp:revision>
  <dc:subject/>
  <dc:title>Decision costs and the Strategic Design of Administrative Process and Judicial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3229771</vt:r8>
  </property>
  <property fmtid="{D5CDD505-2E9C-101B-9397-08002B2CF9AE}" pid="3" name="_AuthorEmail">
    <vt:lpwstr>pereirace@uol.com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site</vt:lpwstr>
  </property>
</Properties>
</file>