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071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0425-E22B-472F-AC1F-538A39399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E055-FD2D-4D64-B0B4-9376C0FD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7EFC-BC54-48FD-9ACE-DB48A88DB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7AA9-DB6A-4FA8-AB07-F78DB6A8D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C88E-9317-4A33-BFAB-ECBC9D113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E4CD-7A42-42AA-AFF4-A548C2C2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5221-943E-4D1F-9198-202F4721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27BB-A7AA-47D9-8F56-63DD47E7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6AF7-D3D5-439D-ABB9-0CCE9A74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A289-E780-445C-8C88-9AC01697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D133-0A9D-4404-8375-37629B91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8940-8F49-45D0-AACC-C1474E59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42777-5751-4BB8-A109-1A3C341F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0800-DD5A-4517-9923-0170C396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27EA-8A25-4AA4-B034-9DEC208D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0D16B-174F-4780-8407-B99E4C0D8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37C6-5D82-4C5D-ABDE-661DCF99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F7E8-C42E-46F3-BDD3-D7F142B8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A5F1-9F58-422C-90BE-8CD9CEF0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7F2A-3F42-48EB-93B8-2B39A844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E72B-0F4C-4D6F-AB0B-8C0233D5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3037-310C-477B-A374-49256204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7778-27C1-448D-844C-9E21C796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DA68-3F7C-4385-97FE-391DEDF8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2968-EFCA-489E-8256-9A2A2CE92D3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E843-D668-494C-B036-8AE70120CDE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1599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ccffff"/>
                </a:solidFill>
                <a:latin typeface="Impact"/>
              </a:rPr>
              <a:t>Simulação a eventos discretos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1640" y="3123720"/>
            <a:ext cx="4267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mpact"/>
              </a:rPr>
              <a:t>Prof. Luiz Ricardo Pint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3" name=""/>
          <p:cNvSpPr/>
          <p:nvPr/>
        </p:nvSpPr>
        <p:spPr>
          <a:xfrm>
            <a:off x="3505320" y="6248520"/>
            <a:ext cx="5410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Impact"/>
              </a:rPr>
              <a:t>Universidade Federal de</a:t>
            </a: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 Minas Ger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</a:rPr>
              <a:t>Principais desvantagens do uso de simulação / Amenizador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Construção de modelos exige treinamento especia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19960" indent="-223920">
              <a:spcBef>
                <a:spcPts val="601"/>
              </a:spcBef>
              <a:buClr>
                <a:srgbClr val="ffff00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Impact"/>
              </a:rPr>
              <a:t>Uso de simuladores / “templates”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Dificuldade na interpretação dos resultado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19960" indent="-223920">
              <a:spcBef>
                <a:spcPts val="601"/>
              </a:spcBef>
              <a:buClr>
                <a:srgbClr val="ffff00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Impact"/>
              </a:rPr>
              <a:t>Aumento da capacidade de análise dos softwar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Modelagem pode consumir tempo e ter custos alto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19960" indent="-223920">
              <a:spcBef>
                <a:spcPts val="601"/>
              </a:spcBef>
              <a:buClr>
                <a:srgbClr val="ffff00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Impact"/>
              </a:rPr>
              <a:t>Aumento da capacidade de construção de modelos dos softwar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6600"/>
                </a:solidFill>
                <a:latin typeface="Impact"/>
              </a:rPr>
              <a:t>Áreas de aplicação da simulaçã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19320" y="204444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Impact"/>
              </a:rPr>
              <a:t>Indústria de manufatura,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Impact"/>
              </a:rPr>
              <a:t>Sistemas públicos,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Impact"/>
              </a:rPr>
              <a:t>Sistemas de transporte,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Impact"/>
              </a:rPr>
              <a:t>Sistemas de lazer / entretenimento,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Impact"/>
              </a:rPr>
              <a:t>Sistemas de computação,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Impact"/>
              </a:rPr>
              <a:t>Mineração,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Impact"/>
              </a:rPr>
              <a:t>Siderurgia,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Impact"/>
              </a:rPr>
              <a:t>Etc ..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a50021"/>
                </a:solidFill>
                <a:latin typeface="Impact"/>
              </a:rPr>
              <a:t>Etapas de um estudo de simulaçã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792468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800000"/>
                </a:solidFill>
                <a:latin typeface="Impact"/>
              </a:rPr>
              <a:t>Formulação do problema</a:t>
            </a:r>
            <a:endParaRPr b="0" lang="en-US" sz="26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4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800000"/>
                </a:solidFill>
                <a:latin typeface="Impact"/>
              </a:rPr>
              <a:t>Estabelecimento de objetivos</a:t>
            </a:r>
            <a:endParaRPr b="0" lang="en-US" sz="26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4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800000"/>
                </a:solidFill>
                <a:latin typeface="Impact"/>
              </a:rPr>
              <a:t>Construção do modelo lógico-matemático</a:t>
            </a:r>
            <a:endParaRPr b="0" lang="en-US" sz="26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4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800000"/>
                </a:solidFill>
                <a:latin typeface="Impact"/>
              </a:rPr>
              <a:t>Levantamento dos dados</a:t>
            </a:r>
            <a:endParaRPr b="0" lang="en-US" sz="26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4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800000"/>
                </a:solidFill>
                <a:latin typeface="Impact"/>
              </a:rPr>
              <a:t>Construção do modelo computacional</a:t>
            </a:r>
            <a:endParaRPr b="0" lang="en-US" sz="26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4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800000"/>
                </a:solidFill>
                <a:latin typeface="Impact"/>
              </a:rPr>
              <a:t>Verificação do modelo computacional</a:t>
            </a:r>
            <a:endParaRPr b="0" lang="en-US" sz="26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4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800000"/>
                </a:solidFill>
                <a:latin typeface="Impact"/>
              </a:rPr>
              <a:t>Validação do modelo computacional</a:t>
            </a:r>
            <a:endParaRPr b="0" lang="en-US" sz="26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4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800000"/>
                </a:solidFill>
                <a:latin typeface="Impact"/>
              </a:rPr>
              <a:t>Implementação</a:t>
            </a:r>
            <a:endParaRPr b="0" lang="en-US" sz="2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6600"/>
                </a:solidFill>
                <a:latin typeface="Impact"/>
              </a:rPr>
              <a:t>Exemplo de aplicaçã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19320" y="204444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empresa deseja estudar duas novas propostas para a forma como os seus produtos serão levados da linha de produção até o ponto onde os caminhões são carregados. Atualmente, os operadores empurram os “pallets”, que são dotados de rodas, até a área, consumindo muito tempo e esforço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etende-se, a priori, que este processo seja feito por uma empilhadeira. A produção sai de dois pontos da linha, distantes 80 m um do outro. A distância dos dois pontos até o ponto de carga é a mesma e igual a 130 m. Sabe-se que as duas linhas preenchem uma caixa com produtos acabados a intervalos de tempo que seguem uma distribuição normal com média de 13 min e desvio padrão de 1.3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6600"/>
                </a:solidFill>
                <a:latin typeface="Impact"/>
              </a:rPr>
              <a:t>Exemplo de aplicação</a:t>
            </a:r>
            <a:r>
              <a:rPr b="0" lang="pt-BR" sz="1600" spc="-1" strike="noStrike">
                <a:solidFill>
                  <a:srgbClr val="ff6600"/>
                </a:solidFill>
                <a:latin typeface="Impact"/>
              </a:rPr>
              <a:t> (Fonte: Apostila Arena)</a:t>
            </a:r>
            <a:endParaRPr b="0" lang="en-US" sz="1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19320" y="204444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empilhadeira trafega a uma velocidade de 50 m/min e o tempo para carregar o caminhão segue uma distribuição normal com média de 1 min e desvio padrão de 0.4 min. Os caminhões estão sempre disponíveis, e a cada 2 caixas carregadas, seguem até a portaria da empresa, levando no percurso um tempo que segue uma distribuição normal com média de 5 min e desvio padrão de 0.9. 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segunda alternativa é a instalação de 2 esteiras, com velocidade de 6 m/min e células de 1 m, ligando os dois pontos da produção até a área de carga. O tempo de carga dos caminhões permanece o mesmo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eja-se simular as duas alternativas, contando o número de caminhões que passam pela portaria da fábrica, verificando se ambos os sistemas atendem à taxa de produção das linhas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6600"/>
                </a:solidFill>
                <a:latin typeface="Impact"/>
              </a:rPr>
              <a:t>Introdução à pesquisa operacional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Impact"/>
              </a:rPr>
              <a:t>Origem da pesquisa operacional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Abordagem científica: II Guerra Mundia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Motivação para a abordagem científica: “A tomada de decisões baseada em sentimento e experiências passadas não implica na otimização das soluções”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Impact"/>
              </a:rPr>
              <a:t>Características Importantes da P.O. 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Aspecto multidisciplinar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Utilização de modelos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6600"/>
                </a:solidFill>
                <a:latin typeface="Impact"/>
              </a:rPr>
              <a:t>Introdução à pesquisa operacional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Impact"/>
              </a:rPr>
              <a:t>Ciências fundamentais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Matemática, Estatística, Economia e Computação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Impact"/>
              </a:rPr>
              <a:t>Enfoques da P.O. 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Impact"/>
              </a:rPr>
              <a:t>Quantitativo</a:t>
            </a: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: visa aplicar métodos matemáticos e estatísticos para resolver problemas de tomada de decisão. É o enfoque mais tradicional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Impact"/>
              </a:rPr>
              <a:t>Qualitativo:</a:t>
            </a: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 Metodologia de formulação dos problema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Na abordagem qualitativa, o enfoque central é deslocado do método de solução (geralmente um algoritmo matemático complexo) para a formulação e modelagem, ou seja, para o diagnóstico do problema.”  (Andrade,1989)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6600"/>
                </a:solidFill>
                <a:latin typeface="Impact"/>
              </a:rPr>
              <a:t>Introduçã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Impact"/>
              </a:rPr>
              <a:t>Origens da simulaçã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Impact"/>
              </a:rPr>
              <a:t>Simulação = Imitação da realidad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Impact"/>
              </a:rPr>
              <a:t>Modelos: Conjunto de suposições sobre a operação do sistem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523880" y="4724280"/>
            <a:ext cx="6629400" cy="1752480"/>
            <a:chOff x="1523880" y="4724280"/>
            <a:chExt cx="6629400" cy="1752480"/>
          </a:xfrm>
        </p:grpSpPr>
        <p:sp>
          <p:nvSpPr>
            <p:cNvPr id="147" name=""/>
            <p:cNvSpPr/>
            <p:nvPr/>
          </p:nvSpPr>
          <p:spPr>
            <a:xfrm>
              <a:off x="1523880" y="4724280"/>
              <a:ext cx="2667240" cy="1752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19720" y="5486040"/>
              <a:ext cx="1295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01640" y="5181480"/>
              <a:ext cx="2354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ff"/>
                  </a:solidFill>
                  <a:latin typeface="Times New Roman"/>
                </a:rPr>
                <a:t>Realidad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5867280" y="4876560"/>
              <a:ext cx="2286000" cy="1371600"/>
              <a:chOff x="5867280" y="4876560"/>
              <a:chExt cx="2286000" cy="1371600"/>
            </a:xfrm>
          </p:grpSpPr>
          <p:sp>
            <p:nvSpPr>
              <p:cNvPr id="151" name=""/>
              <p:cNvSpPr/>
              <p:nvPr/>
            </p:nvSpPr>
            <p:spPr>
              <a:xfrm>
                <a:off x="5867280" y="4876560"/>
                <a:ext cx="2286000" cy="1371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173640" y="5181480"/>
                <a:ext cx="1817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4000" spc="-1" strike="noStrike">
                    <a:solidFill>
                      <a:srgbClr val="ffffff"/>
                    </a:solidFill>
                    <a:latin typeface="Times New Roman"/>
                  </a:rPr>
                  <a:t>Modelo</a:t>
                </a:r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6600"/>
                </a:solidFill>
                <a:latin typeface="Impact"/>
              </a:rPr>
              <a:t>Tipos de modelo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720" y="23623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Impact"/>
              </a:rPr>
              <a:t>Modelos de Otimização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Adequado quando todas as variáveis do sistema são determinístic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Seleção de uma única alternativa via análise matemática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A alternativa selecionada é considerada ótima sob um determinado aspecto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6600"/>
                </a:solidFill>
                <a:latin typeface="Impact"/>
              </a:rPr>
              <a:t>Tipos de modelo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720" y="243792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Impact"/>
              </a:rPr>
              <a:t>Modelos de Simulação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Adequado quando o sistema apresenta variáveis estocástic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Alto grau de liberdade / flexibilidad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Criação de cenários futuro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Análise de perguntas do tipo “E se?”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6600"/>
                </a:solidFill>
                <a:latin typeface="Impact"/>
              </a:rPr>
              <a:t>Tipos de modelo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Impact"/>
              </a:rPr>
              <a:t>Modelos de Simulação X Otimização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05600" indent="-2714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Sempre que possível usar modelos de otimização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05600" indent="-2714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Grande parte dos sistemas encontrados na prática são complexos, envolvem variáveis aleatórias e não apresentam soluções analíticas. Neste caso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Modelos de otimização  fornecerão soluções exatas, mas os modelos, normalmente, serão aproximados.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Impact"/>
              </a:rPr>
              <a:t>Modelos de simulação fornecerão soluções aproximadas mas os modelos serão mais exatos.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6600"/>
                </a:solidFill>
                <a:latin typeface="Impact"/>
              </a:rPr>
              <a:t>Modelos de simulaçã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Impact"/>
              </a:rPr>
              <a:t>Tipo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Impact"/>
              </a:rPr>
              <a:t>Estáticos ou dinâmico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Impact"/>
              </a:rPr>
              <a:t>Determinísticos ou estocástico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Impact"/>
              </a:rPr>
              <a:t>Discretos ou contínuo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Impact"/>
              </a:rPr>
              <a:t>Simulação estocástica a eventos discreto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Impact"/>
              </a:rPr>
              <a:t>Análise por métodos numéricos ao invés métodos analítico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Impact"/>
              </a:rPr>
              <a:t>Modelos são rodados e analisados ao invés de solucionado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ffff"/>
                </a:solidFill>
                <a:latin typeface="Impact"/>
              </a:rPr>
              <a:t>Principais vantagens do uso de simulaçã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Novas políticas e procedimentos operacionais podem ser testados sem interrupção do sistema rea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Determinação de gargalos do sistem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Determinação de como o sistema realmente opera ao invés de como as pessoas pensam que ele oper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Impact"/>
              </a:rPr>
              <a:t>Análise de cenários futuros (“E se?”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30T00:36:10Z</dcterms:created>
  <dc:creator>Luiz Ricardo Pinto</dc:creator>
  <dc:description/>
  <dc:language>en-US</dc:language>
  <cp:lastModifiedBy>Luiz</cp:lastModifiedBy>
  <dcterms:modified xsi:type="dcterms:W3CDTF">2003-10-28T20:21:45Z</dcterms:modified>
  <cp:revision>33</cp:revision>
  <dc:subject/>
  <dc:title>TECMINE</dc:title>
</cp:coreProperties>
</file>